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37B-07CE-4BB2-B062-2F5BE724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C53-1002-4A4B-B6DB-15A15ADA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43D-982E-4BD3-8276-AD6A4C8F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EB4-37B6-4F0F-8648-BA9AAE63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690-6D2B-4E55-AF93-7AFD83E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D9C-933B-4CAD-8FB0-6211CF16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811-5596-43E1-BEEF-6B2C0818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619-639F-42C6-9B10-2E9D5C44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1EF-86F3-4C2A-881F-43E38F42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ECA-0F9E-4855-8A3C-7654EE4D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CD3-8985-4DD6-8375-0AF5C6A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442-02E7-497A-9871-C3610B2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1228-94A6-40A4-B308-385347A42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4F52-717A-462D-8D1E-814CE2CAA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066680" y="838080"/>
            <a:ext cx="7010640" cy="5181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048120" y="3124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133720" y="44956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581280" y="2590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20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6002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5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095880" y="6248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ck and McKe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4570560" y="3125880"/>
            <a:ext cx="2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3503160" y="4497480"/>
            <a:ext cx="32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 flipH="1">
            <a:off x="5865480" y="4497480"/>
            <a:ext cx="32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59092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0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9528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0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96252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5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1722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5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27" descr=""/>
          <p:cNvPicPr/>
          <p:nvPr/>
        </p:nvPicPr>
        <p:blipFill>
          <a:blip r:embed="rId1"/>
          <a:stretch/>
        </p:blipFill>
        <p:spPr>
          <a:xfrm>
            <a:off x="-249120" y="291960"/>
            <a:ext cx="4565520" cy="578016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28" descr=""/>
          <p:cNvPicPr/>
          <p:nvPr/>
        </p:nvPicPr>
        <p:blipFill>
          <a:blip r:embed="rId2"/>
          <a:stretch/>
        </p:blipFill>
        <p:spPr>
          <a:xfrm>
            <a:off x="4718160" y="426960"/>
            <a:ext cx="40291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8:44:15Z</dcterms:created>
  <dc:creator>Kelli Harrell</dc:creator>
  <dc:description/>
  <dc:language>en-US</dc:language>
  <cp:lastModifiedBy>Ana Flyod</cp:lastModifiedBy>
  <dcterms:modified xsi:type="dcterms:W3CDTF">2010-05-04T12:30:25Z</dcterms:modified>
  <cp:revision>5</cp:revision>
  <dc:subject/>
  <dc:title>Slide 1</dc:title>
</cp:coreProperties>
</file>